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219-0F42-4738-84C4-3C66E287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CEA-DB23-4164-92ED-69A7677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455-696B-4594-AEDA-33D02CCA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D34-FFDF-4A61-AF6B-32BEA02F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05E-E4FA-4A21-8DFE-D91AF5DF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BBD-392E-47DE-A1E6-E1733CD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BCE-9EF3-4058-A6F5-A14FAB7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A88-3EA2-49F2-92AB-B330D69C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275-227B-431C-BD43-2C524A39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BB6-E133-46D5-9100-9F68446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3C9-821A-48BB-AE18-4C34013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C29-6DD0-4CA1-982D-1C6B49D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1910-F273-431B-9C50-E61751094E6A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5410080"/>
          <a:ext cx="561312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410080"/>
                    <a:ext cx="5613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95480" y="304920"/>
            <a:ext cx="3792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284640" cy="42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905120" y="4724280"/>
          <a:ext cx="561312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724280"/>
                    <a:ext cx="5613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48520" cy="38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828800" y="4495680"/>
          <a:ext cx="561348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495680"/>
                    <a:ext cx="5613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2962440" cy="40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981080" y="4343400"/>
          <a:ext cx="573408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343400"/>
                    <a:ext cx="5734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04:44:25Z</dcterms:created>
  <dc:creator>유재영</dc:creator>
  <dc:description/>
  <dc:language>en-US</dc:language>
  <cp:lastModifiedBy>유재영</cp:lastModifiedBy>
  <cp:lastPrinted>1997-02-26T15:00:00Z</cp:lastPrinted>
  <dcterms:modified xsi:type="dcterms:W3CDTF">2000-03-24T04:49:03Z</dcterms:modified>
  <cp:revision>1</cp:revision>
  <dc:subject/>
  <dc:title>슬라이드 제목 없음</dc:title>
</cp:coreProperties>
</file>